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A80-C95B-4056-AA6D-7EFFF116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1F5-56D5-4CE7-AA0C-1A6DB309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245-8724-4D80-AD0A-C23CF82C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1D1-EBC5-4BA0-9D64-54D5BD9E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BB8-0A8F-48E7-9D57-C0619E6A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987-0112-4B5D-8DFA-BD7322E4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B0D-5CAA-4DD8-B59E-3CBF4E02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0E0-E29D-40A2-B1B7-5AA43D29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7BD-A405-42ED-8C55-356FFC1C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34D-530F-4E53-89EB-F0D7A9BF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918-F1C7-465B-85C2-02A12022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C14-E93C-478A-B97D-4AA85D8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F1A-EF13-4CC0-9C57-FB3BBA43A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did Maori hu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Corban and Hus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02:34:37Z</dcterms:created>
  <dc:creator>5d20</dc:creator>
  <dc:description/>
  <dc:language>en-US</dc:language>
  <cp:lastModifiedBy>5d20</cp:lastModifiedBy>
  <dcterms:modified xsi:type="dcterms:W3CDTF">2013-06-17T03:01:32Z</dcterms:modified>
  <cp:revision>2</cp:revision>
  <dc:subject/>
  <dc:title>Slide 1</dc:title>
</cp:coreProperties>
</file>